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E61D-0FE9-48C8-8DF3-ED4CD1E1B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AFB0-E651-4EF2-98C4-576E34EF8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8FFB-B6A2-4567-95F3-6D180F0CF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2F6C-996E-4578-8F45-B02E0850A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8808-B30E-49FD-B98E-BA5A5E8F52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427D-C42B-4BD4-850C-8AE75521D7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2F39-AE85-4C91-BFE1-B24FA4D2BF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4B4A-DECD-4D29-9769-9432BA4F7C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2E71-39BC-49A7-BD64-137897C40A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6F95-87D5-4E72-9735-DEA5ABD1A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3582-5415-43AA-95F8-65739E6F24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6339-F1BF-4F43-972C-2549DBBD89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0553-0010-4070-9D7F-FBBFBEE8B4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E8FF-7104-4AA5-982B-E0DD80C7A8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6E40-90E2-4122-BE91-A155F99EE1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AF5C-07AF-44FB-96FA-4D8504DB53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F48D-FE1D-4437-B4A0-C46D10639C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BD42-3846-40B0-A88B-908BE62A39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2ED7-13CA-4111-A583-3EF27EF064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3043C-D57B-4CDD-8D10-B255B9471D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E27B-3D14-4119-959D-58A4D64D85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4879-F328-44DC-B34A-528342A85C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5F4B-E9B6-4E95-AF0B-66AE922238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EE83-A283-473C-8996-B431E3BA21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4493-26ED-43BA-872D-D705B9938E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4AEF-4ABC-4204-A2C3-D7A29216C7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2572-9125-4B7B-A25B-7C86D1CF32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242D-9154-487C-B8E1-92507443FD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EEE-3FBF-45F0-B705-E61DC08179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7FF-7BC5-4B55-8FA7-BBCBB710E4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299-E0CC-45E8-9A45-4295FE7FD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AA5-FE4E-4241-83B2-9EE71A9909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622-E928-4C3A-B24B-EE427239C5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BA5-B2B0-4A58-A4E4-B15B973183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079-DE2C-4D7B-AA74-30D7D76616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D71-04FD-4CA2-B46C-C6F4CBFCAB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506-A509-43EF-AED9-F7612936D2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E6E-1874-429C-AD95-58D6A081D1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99A-75C8-4D71-80C3-BF4F35C1C3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BDD-A319-4AEC-BDAC-4CFFF6073C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401C5-667F-41F8-B547-28BB3E4F84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96471-5306-4050-96F7-4192BAF00B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CF871-AD4F-45E0-86E4-B849FC1E362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41CD9-58F3-4008-B244-B5E27D27E5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21BCB-C3F9-45A4-8947-69BB61A6385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8B6B7-2EF3-4F73-8DAB-D7C76B7226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382DF-1FE4-40D5-B4F9-8AA39ECCBF6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3F501-424A-4009-8EC2-79DE77E046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91E4B-E162-479A-BFB4-C1165B10B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816F0-3DE6-4D4A-935B-4EE9075D69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6679A-B8AE-4449-ADB4-7F96ECA628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B47D5-F567-4B77-AF69-FD3C22A531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2C186-786C-4DE1-B136-00BF508E3A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710DF-135E-45F5-AD25-726417C510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6531E-7F24-45F1-8EBD-43030190B1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59A8A-58D2-4636-80DC-EB699BC372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47234-BAE4-4728-85D5-9F0ADACC18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F6B89-0DF6-42F6-A540-8C0A02F8D0B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282E4-8CAA-4A6C-A670-75F5127D3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9CBE5-5AF0-422A-ACE5-9B04AFA692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7C520-937B-4D75-B65C-52D61AAEE7D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B9A40-FADD-41FD-BADC-FC97ADE05A6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84B89-8CE0-41FE-A8FB-B01DD7ED6D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AE33B-5FCA-4473-BA5B-5D484B319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4E3A-D360-4A89-B773-77BA4CE1BB3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2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8FFF-23F0-4867-8F7B-604B67AAFF7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Num" idx="3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086E-1394-476F-9F79-CB99BA69B27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Num" idx="4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FCB2-35F4-4080-93D0-391F54AE632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7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Num" idx="5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01C9-56C5-40F3-B077-ADC5A0F35D8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mailto:cer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hyperlink" Target="mailto:cera@msmt.cz" TargetMode="External"/><Relationship Id="rId4" Type="http://schemas.openxmlformats.org/officeDocument/2006/relationships/hyperlink" Target="mailto:cera@msmt.cz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47145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prezentace vychází z Příručky pro žadatele OPVK ze dne 3. 9. 2008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přípravě žádostí je nutné vycházet z aktuálních informací uvedených v Příručce pro žadatele platné vždy pro danou výzvu a z podmínek stanovených ve výzvě k předkládání žádos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675A-732E-4890-A026-2D049F3AD8F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4CB5-31FF-4AD3-B242-4D7B2E5A4C5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54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9BEE-74B5-4361-A0BC-9C1F2525648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rázek 8" descr="1.JPG"/>
          <p:cNvPicPr/>
          <p:nvPr/>
        </p:nvPicPr>
        <p:blipFill>
          <a:blip r:embed="rId1"/>
          <a:stretch/>
        </p:blipFill>
        <p:spPr>
          <a:xfrm>
            <a:off x="1500120" y="1428840"/>
            <a:ext cx="466272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1357200" y="1500120"/>
            <a:ext cx="4238640" cy="47386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B8A-5C7C-42E9-98AA-E8CB940E972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Šrafovaná šipka doprava 5"/>
          <p:cNvSpPr/>
          <p:nvPr/>
        </p:nvSpPr>
        <p:spPr>
          <a:xfrm rot="5400000">
            <a:off x="3643560" y="150012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ový popisek 6"/>
          <p:cNvSpPr/>
          <p:nvPr/>
        </p:nvSpPr>
        <p:spPr>
          <a:xfrm>
            <a:off x="5429160" y="1357200"/>
            <a:ext cx="3500640" cy="571680"/>
          </a:xfrm>
          <a:prstGeom prst="wedgeRectCallout">
            <a:avLst>
              <a:gd name="adj1" fmla="val -156407"/>
              <a:gd name="adj2" fmla="val 2605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ový popisek 7"/>
          <p:cNvSpPr/>
          <p:nvPr/>
        </p:nvSpPr>
        <p:spPr>
          <a:xfrm>
            <a:off x="5429160" y="2000160"/>
            <a:ext cx="3500640" cy="571680"/>
          </a:xfrm>
          <a:prstGeom prst="wedgeRectCallout">
            <a:avLst>
              <a:gd name="adj1" fmla="val -60777"/>
              <a:gd name="adj2" fmla="val 5615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délníkový popisek 8"/>
          <p:cNvSpPr/>
          <p:nvPr/>
        </p:nvSpPr>
        <p:spPr>
          <a:xfrm>
            <a:off x="5429160" y="2643120"/>
            <a:ext cx="3500640" cy="121464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ový popisek 9"/>
          <p:cNvSpPr/>
          <p:nvPr/>
        </p:nvSpPr>
        <p:spPr>
          <a:xfrm>
            <a:off x="5429160" y="3929040"/>
            <a:ext cx="3500640" cy="64296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délníkový popisek 10"/>
          <p:cNvSpPr/>
          <p:nvPr/>
        </p:nvSpPr>
        <p:spPr>
          <a:xfrm>
            <a:off x="5429160" y="4643280"/>
            <a:ext cx="3500640" cy="1500480"/>
          </a:xfrm>
          <a:prstGeom prst="wedgeRectCallout">
            <a:avLst>
              <a:gd name="adj1" fmla="val -71027"/>
              <a:gd name="adj2" fmla="val 3159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6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3889440" cy="4143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B425-41FA-444C-9477-39BAE2B77B2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ový popisek 10"/>
          <p:cNvSpPr/>
          <p:nvPr/>
        </p:nvSpPr>
        <p:spPr>
          <a:xfrm>
            <a:off x="5429160" y="4143240"/>
            <a:ext cx="3500640" cy="150048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4A3F-B2DE-4F34-B27F-13DC9ED2DB7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2A03-B0A7-4273-B165-043C3887F0C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643040" y="1076400"/>
            <a:ext cx="4143240" cy="5024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A5BA-D2BF-4AA2-8E47-C64C65EF2AF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délníkový popisek 5"/>
          <p:cNvSpPr/>
          <p:nvPr/>
        </p:nvSpPr>
        <p:spPr>
          <a:xfrm>
            <a:off x="6286680" y="1714680"/>
            <a:ext cx="2714400" cy="1571400"/>
          </a:xfrm>
          <a:prstGeom prst="wedgeRectCallout">
            <a:avLst>
              <a:gd name="adj1" fmla="val -156583"/>
              <a:gd name="adj2" fmla="val 15411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délníkový popisek 6"/>
          <p:cNvSpPr/>
          <p:nvPr/>
        </p:nvSpPr>
        <p:spPr>
          <a:xfrm>
            <a:off x="6286680" y="3571920"/>
            <a:ext cx="2714400" cy="2071800"/>
          </a:xfrm>
          <a:prstGeom prst="wedgeRectCallout">
            <a:avLst>
              <a:gd name="adj1" fmla="val -127578"/>
              <a:gd name="adj2" fmla="val 6796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Šrafovaná šipka doprava 9"/>
          <p:cNvSpPr/>
          <p:nvPr/>
        </p:nvSpPr>
        <p:spPr>
          <a:xfrm rot="5400000">
            <a:off x="3643200" y="5786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Příprava projektové žádosti </a:t>
            </a:r>
            <a:br>
              <a:rPr sz="5000"/>
            </a:b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v aplikaci BENEFIT7</a:t>
            </a:r>
            <a:endParaRPr b="1" lang="en-US" sz="5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57176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ADCA-F9AC-4E5A-B45C-D0AB17E2F09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643200" y="1285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6"/>
          <p:cNvSpPr/>
          <p:nvPr/>
        </p:nvSpPr>
        <p:spPr>
          <a:xfrm>
            <a:off x="6143760" y="178596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délníkový popisek 7"/>
          <p:cNvSpPr/>
          <p:nvPr/>
        </p:nvSpPr>
        <p:spPr>
          <a:xfrm>
            <a:off x="6143760" y="3500280"/>
            <a:ext cx="2857320" cy="235764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AFF3-8FFE-4092-A6E5-B7813BA0F91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A072-8F30-4916-A18B-218E2999A19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CCF6-1B78-4518-80A2-99A6F525303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99EA-096B-460A-88D6-09114F2D1DF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5A6F-27D1-45EF-A8E4-3737C11DB00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425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B7AB-48B8-49B7-B41D-ACB9C576903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odpovědi na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5382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CE5B-EF00-4166-AC61-5C3EB29A85F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Šrafovaná šipka doprava 5"/>
          <p:cNvSpPr/>
          <p:nvPr/>
        </p:nvSpPr>
        <p:spPr>
          <a:xfrm rot="5400000">
            <a:off x="3792240" y="1571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délníkový popisek 6"/>
          <p:cNvSpPr/>
          <p:nvPr/>
        </p:nvSpPr>
        <p:spPr>
          <a:xfrm>
            <a:off x="5572080" y="1571760"/>
            <a:ext cx="3500640" cy="142848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Obrázek 8" descr="popisProjektu.jpg"/>
          <p:cNvPicPr/>
          <p:nvPr/>
        </p:nvPicPr>
        <p:blipFill>
          <a:blip r:embed="rId2"/>
          <a:stretch/>
        </p:blipFill>
        <p:spPr>
          <a:xfrm>
            <a:off x="1285920" y="4595760"/>
            <a:ext cx="4357800" cy="1690920"/>
          </a:xfrm>
          <a:prstGeom prst="rect">
            <a:avLst/>
          </a:prstGeom>
          <a:ln w="0">
            <a:noFill/>
          </a:ln>
        </p:spPr>
      </p:pic>
      <p:sp>
        <p:nvSpPr>
          <p:cNvPr id="437" name="Obdélníkový popisek 9"/>
          <p:cNvSpPr/>
          <p:nvPr/>
        </p:nvSpPr>
        <p:spPr>
          <a:xfrm>
            <a:off x="5572080" y="5000760"/>
            <a:ext cx="3500640" cy="857160"/>
          </a:xfrm>
          <a:prstGeom prst="wedgeRectCallout">
            <a:avLst>
              <a:gd name="adj1" fmla="val -69800"/>
              <a:gd name="adj2" fmla="val 7782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erte podporované aktivity uvedené ve výzvě k předkládání žádostí, které odpovídají daném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délníkový popisek 7"/>
          <p:cNvSpPr/>
          <p:nvPr/>
        </p:nvSpPr>
        <p:spPr>
          <a:xfrm>
            <a:off x="5572080" y="3071880"/>
            <a:ext cx="3500640" cy="15714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činnosti související s projektovým řízením včetně vazby na rozpoč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EB63-B84D-449E-BA96-9C89E050E32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textu výzvy jsou povinné indikátory zvýrazněné tučným pí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28480" y="171432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6" name="Zástupný symbol pro číslo snímku 5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7710-3376-4DF6-A35F-A076D1E751F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86240" y="1643040"/>
            <a:ext cx="35719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285920"/>
            <a:ext cx="4873680" cy="49705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CD66-4FD2-4920-B646-D77A70A7F0E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délník se zakulaceným příčným rohem 6"/>
          <p:cNvSpPr/>
          <p:nvPr/>
        </p:nvSpPr>
        <p:spPr>
          <a:xfrm>
            <a:off x="6215040" y="264312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F175-D624-4646-9C17-E8FE1922D53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délníkový popisek 7"/>
          <p:cNvSpPr/>
          <p:nvPr/>
        </p:nvSpPr>
        <p:spPr>
          <a:xfrm>
            <a:off x="5857920" y="2714760"/>
            <a:ext cx="3214800" cy="2428920"/>
          </a:xfrm>
          <a:prstGeom prst="wedgeRectCallout">
            <a:avLst>
              <a:gd name="adj1" fmla="val -100513"/>
              <a:gd name="adj2" fmla="val 208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ESF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učet všech způsobilých výdajů za všechny klíčové aktivity musí odpovídat minimálně 70 % celkových způsobilých výdajů za celý proje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EB12-57E7-4775-90DA-367099193AD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Zástupný symbol pro obsah 4" descr="04_zadost31_crop.jpg"/>
          <p:cNvPicPr/>
          <p:nvPr/>
        </p:nvPicPr>
        <p:blipFill>
          <a:blip r:embed="rId1"/>
          <a:stretch/>
        </p:blipFill>
        <p:spPr>
          <a:xfrm>
            <a:off x="1357200" y="1928880"/>
            <a:ext cx="5896080" cy="27399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C45D-BB3F-439F-976B-3CF738AE231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D500-FB75-4EC4-97B3-4CD699305E4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délníkový popisek 5"/>
          <p:cNvSpPr/>
          <p:nvPr/>
        </p:nvSpPr>
        <p:spPr>
          <a:xfrm>
            <a:off x="6143760" y="1500120"/>
            <a:ext cx="2928960" cy="1285920"/>
          </a:xfrm>
          <a:prstGeom prst="wedgeRectCallout">
            <a:avLst>
              <a:gd name="adj1" fmla="val -115509"/>
              <a:gd name="adj2" fmla="val 12412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95300"/>
              <a:gd name="adj2" fmla="val 73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7F1E-E599-4212-99B1-D2A594CA9FB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délníkový popisek 5"/>
          <p:cNvSpPr/>
          <p:nvPr/>
        </p:nvSpPr>
        <p:spPr>
          <a:xfrm>
            <a:off x="6072120" y="857160"/>
            <a:ext cx="2928960" cy="1285920"/>
          </a:xfrm>
          <a:prstGeom prst="wedgeRectCallout">
            <a:avLst>
              <a:gd name="adj1" fmla="val -149481"/>
              <a:gd name="adj2" fmla="val 29195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 %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 % atd.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délníkový popisek 7"/>
          <p:cNvSpPr/>
          <p:nvPr/>
        </p:nvSpPr>
        <p:spPr>
          <a:xfrm>
            <a:off x="5786280" y="2786040"/>
            <a:ext cx="3214800" cy="857160"/>
          </a:xfrm>
          <a:prstGeom prst="wedgeRectCallout">
            <a:avLst>
              <a:gd name="adj1" fmla="val -117819"/>
              <a:gd name="adj2" fmla="val 22499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délníkový popisek 8"/>
          <p:cNvSpPr/>
          <p:nvPr/>
        </p:nvSpPr>
        <p:spPr>
          <a:xfrm>
            <a:off x="5286240" y="3786120"/>
            <a:ext cx="3714840" cy="2214720"/>
          </a:xfrm>
          <a:prstGeom prst="wedgeRectCallout">
            <a:avLst>
              <a:gd name="adj1" fmla="val -80402"/>
              <a:gd name="adj2" fmla="val 504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404D-0987-44A0-A5FF-3A16119B11F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délník se zakulaceným příčným rohem 4"/>
          <p:cNvSpPr/>
          <p:nvPr/>
        </p:nvSpPr>
        <p:spPr>
          <a:xfrm>
            <a:off x="6215040" y="1357200"/>
            <a:ext cx="271476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opisu pracovní náplně uveďte počet osob, které budou danou pozici zajišť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7954-7CDC-4152-80B2-149ED324FEA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1360" y="2714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2AF3-025B-49D3-BC0A-A82579B2A53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500120" y="19288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19ED-2C06-47F6-865C-74720BFB815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86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87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8996-BD7C-44ED-95EB-4389B0DA811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0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91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F1D-376E-48AA-BD22-FA0248226ED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4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95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1C14-990B-4FFE-A385-04B5602CC0A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99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A96-086B-4D9D-97FE-2BFAF2CA0C8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503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52A0-29F1-4853-8C52-A629FD7F34E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507" name="TextovéPole 6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DB8D-5C97-4918-AEDD-75D1A234DF5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0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511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DFFA-F90F-4877-92EC-8829E08A627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4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515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516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517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518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519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71360" y="27144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6E21-5F4A-4A64-9D9D-22A8B254258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963B-C3FD-4392-9046-DF0179760E9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délník se zakulaceným příčným rohem 8"/>
          <p:cNvSpPr/>
          <p:nvPr/>
        </p:nvSpPr>
        <p:spPr>
          <a:xfrm>
            <a:off x="5786280" y="3071880"/>
            <a:ext cx="3143520" cy="257184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ázek 5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32576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6F15-C7B8-4D68-8D92-DAC6DECA45A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8669-DFD1-4E3C-9856-CB3E9439F0F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287B-09DF-48D5-B491-2D9EBBD8E23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3" name="Obdélník se zakulaceným příčným rohem 6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800-5DFA-420A-9945-4783A14E6AB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7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357200" y="1514520"/>
            <a:ext cx="3929040" cy="477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29E9-4DC3-41B1-A239-9FE8514D63A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rámci jednoho kraje je nutné uvést vždy pouze jeden reg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ádějte nejvyšší typ území (region, kraj, okres, obec), který odpovídá zpracovávanému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rázek 9" descr="3.JPG"/>
          <p:cNvPicPr/>
          <p:nvPr/>
        </p:nvPicPr>
        <p:blipFill>
          <a:blip r:embed="rId1"/>
          <a:stretch/>
        </p:blipFill>
        <p:spPr>
          <a:xfrm>
            <a:off x="1357200" y="1500120"/>
            <a:ext cx="4923000" cy="47484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2B53-A623-48CD-80E3-DBC38E9A934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13A4-E0A8-4BDB-955A-9A288DEA4BE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E059-C2F0-4181-958E-B776C20EA45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5891-3588-4072-8035-AF9560F5175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37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181569"/>
              <a:gd name="adj2" fmla="val 12371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6AB0-6296-4D90-8B49-7C140CF5069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BE3D-4D64-41D8-A047-F863F89D0E8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857240" y="1714680"/>
            <a:ext cx="6286680" cy="43862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B8A-9305-4A74-B2B6-0EFD863219B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992160"/>
            <a:ext cx="4786560" cy="5294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95B1-B2B8-4F3F-BBCB-A5CE7F3210A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B021-24BE-4578-80EF-93E5A99F8CE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Šrafovaná šipka doprava 5"/>
          <p:cNvSpPr/>
          <p:nvPr/>
        </p:nvSpPr>
        <p:spPr>
          <a:xfrm rot="5400000">
            <a:off x="3071880" y="457200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 povaze projektu nepodstatn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07CE-0A75-4B38-A068-35A0D56DBE9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1499760"/>
            <a:ext cx="807228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elp_opvk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smt.cz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era@msmt.cz</a:t>
            </a:r>
            <a:br>
              <a:rPr sz="3200"/>
            </a:b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8EC8-49F9-42F4-B751-F139BCA6719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43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B73E-CEAF-4128-8653-06062ADCE24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5143320" cy="43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F821-4150-490E-ABAC-181CA40E377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, kteří mají společné podpisové právo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6:19:35Z</dcterms:modified>
  <cp:revision>794</cp:revision>
  <dc:subject/>
  <dc:title>Snímek 1</dc:title>
</cp:coreProperties>
</file>